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1D8-BA12-48E1-8FDE-83D833A1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AD1-43CD-4383-BCCC-8C4A639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5A7-640E-44A1-BB9C-1C37ACED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45E-732F-42CB-A49D-975C46B1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0D5-C6DE-4D80-80CC-DEDCCAD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6874-B415-472C-93EC-5789905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A0B-5EA7-4323-A3CC-0719622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35B6-8CD0-4D6E-9E11-BD3444B0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BB9-5BEF-4B3C-A233-7BD817C5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6F5-4A59-4500-B0BC-34FCCAC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EF03-84FE-4482-A739-23975E7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DC7-2F83-4BD1-B972-053FE73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D6E-4580-4BAA-AA34-93EFB7D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7E7-0616-43A8-980C-6444938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EA8-B09B-42AE-95A2-4309F4B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2DA6-1AD7-4A29-8E51-4EA7F79B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4C1-D199-4696-845E-764D1DD9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BA9-D1AB-4C16-ABA0-C6D3E59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82A-C2AE-4BC2-AD03-DCF43A3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C9D-39DA-4590-8BD0-9E49186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D64-73B6-4B9F-BAA4-75D36EAF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992-CBE0-4AFD-9605-D055F6E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FC4-EF53-419C-910B-D963C14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E7F-0467-4108-8FFF-33A00A6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AD7F-ACCF-4FD4-9A7D-B90059EB03A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4E6-1275-46BE-A1FC-5047EA59247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wered 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Neil and Dev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10 years, 25% of our useable water is gone because of car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if you do the math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40 years, all freshwater would be g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nclusion is obvious; water powered cars would do nothing but drain our drinkable water source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worlds water crisis would escalate uncontrollably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f the economy develops and people start using water powered vehicles worldwide, how would that effect the world water cri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next slide is a diagram how water powered cars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pretty much makes no s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idea is how you can use half water, half gasoline to run your vehicle at highway speed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540 million people in the world drive c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a person refuels their tank from empty to full once a we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s 3 billion litres of gas used for cars a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ould reduce this by 50% by using half water and half gas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Statis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0 Quintillion litres of freshwater on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ring that into perspective, that’s a 23 digit nu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salt water is not possible to be used, the only option is freshwater. It would be another blow to the already reducing water crisi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7315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tists are currently working on an efficient way to make saltwater fresh and use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o this day, it costs to much money and until we are more desperate for water, it is not et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8:42:54Z</dcterms:created>
  <dc:creator>User</dc:creator>
  <dc:description/>
  <dc:language>en-US</dc:language>
  <cp:lastModifiedBy>User</cp:lastModifiedBy>
  <dcterms:modified xsi:type="dcterms:W3CDTF">2010-03-26T19:45:40Z</dcterms:modified>
  <cp:revision>4</cp:revision>
  <dc:subject/>
  <dc:title>Water Powered Cars</dc:title>
</cp:coreProperties>
</file>